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999120" cy="927108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71080"/>
              <a:gd name="textAreaBottom" fmla="*/ 9270720 h 9271080"/>
            </a:gdLst>
            <a:ahLst/>
            <a:rect l="textAreaLeft" t="textAreaTop" r="textAreaRight" b="textAreaBottom"/>
            <a:pathLst>
              <a:path w="21600" h="28611">
                <a:moveTo>
                  <a:pt x="4" y="0"/>
                </a:moveTo>
                <a:arcTo wR="4" hR="4" stAng="16200000" swAng="-5400000"/>
                <a:lnTo>
                  <a:pt x="0" y="28607"/>
                </a:lnTo>
                <a:arcTo wR="4" hR="4" stAng="10800000" swAng="-5400000"/>
                <a:lnTo>
                  <a:pt x="21596" y="2861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540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5400" y="8995320"/>
            <a:ext cx="303228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84F1-E504-4F0A-832F-BDCC3ECCE3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81880" y="704520"/>
            <a:ext cx="4634280" cy="34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freshmeat.net/projects/boa-constructor/" TargetMode="External"/><Relationship Id="rId2" Type="http://schemas.openxmlformats.org/officeDocument/2006/relationships/hyperlink" Target="http://freshmeat.net/projects/directfb/" TargetMode="External"/><Relationship Id="rId3" Type="http://schemas.openxmlformats.org/officeDocument/2006/relationships/hyperlink" Target="http://freshmeat.net/projects/fltk/" TargetMode="External"/><Relationship Id="rId4" Type="http://schemas.openxmlformats.org/officeDocument/2006/relationships/hyperlink" Target="http://freshmeat.net/projects/fox/" TargetMode="External"/><Relationship Id="rId5" Type="http://schemas.openxmlformats.org/officeDocument/2006/relationships/hyperlink" Target="http://freshmeat.net/projects/gettext/" TargetMode="External"/><Relationship Id="rId6" Type="http://schemas.openxmlformats.org/officeDocument/2006/relationships/hyperlink" Target="http://freshmeat.net/projects/glade/" TargetMode="External"/><Relationship Id="rId7" Type="http://schemas.openxmlformats.org/officeDocument/2006/relationships/hyperlink" Target="http://freshmeat.net/projects/glut/" TargetMode="External"/><Relationship Id="rId8" Type="http://schemas.openxmlformats.org/officeDocument/2006/relationships/hyperlink" Target="http://freshmeat.net/projects/gtk/" TargetMode="External"/><Relationship Id="rId9" Type="http://schemas.openxmlformats.org/officeDocument/2006/relationships/hyperlink" Target="http://freshmeat.net/projects/gtkglarea/" TargetMode="External"/><Relationship Id="rId10" Type="http://schemas.openxmlformats.org/officeDocument/2006/relationships/hyperlink" Target="http://freshmeat.net/projects/gtkglext/" TargetMode="External"/><Relationship Id="rId11" Type="http://schemas.openxmlformats.org/officeDocument/2006/relationships/hyperlink" Target="http://freshmeat.net/projects/gtkglextmm/" TargetMode="External"/><Relationship Id="rId12" Type="http://schemas.openxmlformats.org/officeDocument/2006/relationships/hyperlink" Target="http://freshmeat.net/projects/gtkmm/" TargetMode="External"/><Relationship Id="rId13" Type="http://schemas.openxmlformats.org/officeDocument/2006/relationships/hyperlink" Target="http://freshmeat.net/projects/lesstif/" TargetMode="External"/><Relationship Id="rId14" Type="http://schemas.openxmlformats.org/officeDocument/2006/relationships/slide" Target="../slides/slide5.xml"/><Relationship Id="rId15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ux kernel driv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rom Ide Media(V4L) parport scsi video(F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rn    char ieee1394 messagepci    sgi      zo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pi     dio  input    misc   pcmcia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      fc4  isdn     mtd    pnp    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    i2c  macintoshnet    s390   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i2o  md       nubus  sbus   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bmpeg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EG-1 Layer II/III Audi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EG-2 Layer III Audi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EG-1 video/program strea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EG-2 video/program/transport strea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3 Audi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O/VOB fi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y Do We Need Toolkits? (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reshmeat.net/articles/view/928/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TK+/gtkmm, Trolltech Qt, FOX Toolkit, FLTK, and wxWind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D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mple DirectMedia Layer is a library that allows you low level access to a framebuffer, audio output, mouse, keyboard, and joysti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ally designed and used for Games (Lok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I toolkit related project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Boa Constructo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RAD GUI-building IDE for wxPython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DirectFB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hardware-accelerated graphics library on top of the Linux framebuffer device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FLT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C++ user interface toolkit for X11, Win32, and MacOS X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FOX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C++-based library for graphical user interface development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gettex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The GNU internationalization library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Glad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GUI builder for GTK+ and GNOME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GLU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Implements a simple platform independent windowing API for OpenGL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GTK+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library for creating graphical user interfaces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GtkGLAre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n OpenGL widget for GTK+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GtkGLEx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n OpenGL extension to GTK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gtkglextm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C++ wrapper for GtkGLExt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gtkm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A C++ interface for the popular GUI library GTK+.</a:t>
            </a:r>
            <a:br>
              <a:rPr sz="1200"/>
            </a:br>
            <a:r>
              <a:rPr b="0" lang="en-US" sz="1200" spc="-1" strike="noStrike" u="sng">
                <a:solidFill>
                  <a:srgbClr val="ccccff"/>
                </a:solidFill>
                <a:uFillTx/>
                <a:latin typeface="Verdana"/>
                <a:hlinkClick r:id="rId13"/>
              </a:rPr>
              <a:t>Lesstif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- LGPL'd re-implementation of Moti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t - A GUI software toolki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cl/Tk - A portable scripting environment for Unix, Windows, and Macintos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Gimp - The GNU Image Manipulation Program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ICompiler - A User Interface compiler combining QtDesigner and Java Sw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xPython - A Python extension module for wxWindow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xWindows/GTK - GTK port of the cross-platform wxWindows C++application framework class libra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Forms - A GUI toolkit based on Xli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X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http://bytesex.org/v4l/spec/c10118.html#XVIDE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v has a major advantage over the V4L2 video overlay interface because the Xv driver embedded into the X server can easily determine the overlay target, can program the RAMDAC for overlay, scaling or color-keying, or the clipping functions of the video capture hardware, always in synchronization with drawing operations or windows moving or changing stacking order. To take advantage of these abilities a special Xv driver exists in XFree86, just programming any overlay capable Video4Linux device it finds. To enable it /etc/XF86Config must contain these li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tion "Modul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ad "v4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nce V4L2 permits multiple opens it is possible (if supported by the V4L2 driver) to capture video while an X client requested video overl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ree86 extended Xv to support hardware YUV to RGB conversion and scaling for faster video playback, this can be used to improve displaying captured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ices to be made when a CE vendor specific MultiMedia/Graphics device is int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ndardize at kernel boundary (via ioctl) or at a higher level in user-sp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er level candidates: ALSA for sound, UHAPI for AV streaming, DirectFB for video/grap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63280"/>
            <a:ext cx="77709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6328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46328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6328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46328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463280"/>
            <a:ext cx="2502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0960" cy="423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6328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46328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63280"/>
            <a:ext cx="77709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8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 January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33720" y="624852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 Linux Forum Technical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15200" y="6248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24CB-25EA-41B4-8988-837A7665D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tstream Vera Sans"/>
              </a:rPr>
              <a:t>Audio Video Graphics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Working Group Session</a:t>
            </a:r>
            <a:endParaRPr b="0" lang="en-US" sz="4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itstream Vera Sans"/>
              </a:rPr>
              <a:t>San Jos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itstream Vera Sans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Pieter van de Meu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WG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AVG WG – todays objective: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09480" y="1676520"/>
          <a:ext cx="8229600" cy="4330440"/>
        </p:xfrm>
        <a:graphic>
          <a:graphicData uri="http://schemas.openxmlformats.org/drawingml/2006/table">
            <a:tbl>
              <a:tblPr/>
              <a:tblGrid>
                <a:gridCol w="1676520"/>
                <a:gridCol w="1600200"/>
                <a:gridCol w="1600200"/>
                <a:gridCol w="1754280"/>
                <a:gridCol w="1598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ud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Vide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2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3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Renesas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itstream Vera Sans"/>
                          <a:ea typeface="msgothic"/>
                        </a:rPr>
                        <a:t>Mitsubishi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 Conex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DirectF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Philips (2) Sams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U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P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Phil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Multi-F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OpenG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…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762120" y="1371600"/>
            <a:ext cx="8381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latin typeface="Arial Black"/>
              </a:rPr>
              <a:t>To be filled i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Recall: 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tstream Vera Sans"/>
                <a:ea typeface="ＭＳ Ｐゴシック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/2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tstream Vera Sans"/>
                <a:ea typeface="ＭＳ Ｐゴシック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 Presentation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90360" y="16002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DirectFB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Dennis Oliver Kropp;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directfb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OpenGL ES, OpenVG and OpenMAX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Ed Plowman; 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khronos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Graphics APIS for Linux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Matsubara, Hagiwara, Hisao Munakata; Rene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Creating GTK+ based UI's for embedded devices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Markku Ursin, Mov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gtk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Linux DVB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Michael Hunold;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linuxtv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UHAPI (AV streaming) tutorial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- John Vugts; Philips/Sam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http://www.uhapi.or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Recall: Jan. 2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tstream Vera Sans"/>
                <a:ea typeface="ＭＳ Ｐゴシック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 Demos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720" y="1514520"/>
            <a:ext cx="76960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FB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Multi-framebuf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hilips: PNX8550 running Linux; dual framebuffer and AV acce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Direct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Conexant: DVD processor running CELF Linux with DirectF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tsubishi: ARIB plane model emulated on DirectFB window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Mitsubishi: MPEG4 Player (via GTK+) running on Renesas SH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nesas: GTK+ and GUI without X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UHAPI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(AV streaming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hilips open source demo on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D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Toshiba America/Europe: DTV reference solution and Home Gate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itstream Vera Sans"/>
              </a:rPr>
              <a:t>3D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Renesas: demo by SI-Electronics on SH-4 and Power 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  <a:ea typeface="msgothic"/>
              </a:rPr>
              <a:t>Pioneer: OpenG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nux APIs (2004/6 status) &amp; CELF V1.0 focu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4419720"/>
            <a:ext cx="6248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440" y="39625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dev/fb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39625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dev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5360" y="4038480"/>
            <a:ext cx="3934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066680"/>
            <a:ext cx="62485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8098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8800" y="4572000"/>
            <a:ext cx="82080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esa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438280"/>
            <a:ext cx="1752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2666880"/>
            <a:ext cx="609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iny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3352680"/>
            <a:ext cx="60984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1828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9051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N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TK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143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5360" y="1749960"/>
            <a:ext cx="393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R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51814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5360" y="5332680"/>
            <a:ext cx="39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81480" y="3200400"/>
            <a:ext cx="1371600" cy="457200"/>
            <a:chOff x="5181480" y="3200400"/>
            <a:chExt cx="1371600" cy="457200"/>
          </a:xfrm>
        </p:grpSpPr>
        <p:sp>
          <p:nvSpPr>
            <p:cNvPr id="78" name=""/>
            <p:cNvSpPr/>
            <p:nvPr/>
          </p:nvSpPr>
          <p:spPr>
            <a:xfrm>
              <a:off x="5181480" y="320040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8160" y="32763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irectF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410080" y="1828800"/>
            <a:ext cx="990720" cy="1371600"/>
            <a:chOff x="5410080" y="1828800"/>
            <a:chExt cx="990720" cy="1371600"/>
          </a:xfrm>
        </p:grpSpPr>
        <p:sp>
          <p:nvSpPr>
            <p:cNvPr id="81" name=""/>
            <p:cNvSpPr/>
            <p:nvPr/>
          </p:nvSpPr>
          <p:spPr>
            <a:xfrm>
              <a:off x="5410080" y="1828800"/>
              <a:ext cx="99072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10080" y="190476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N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TK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853760" y="2971800"/>
            <a:ext cx="1034280" cy="115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ue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mpe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p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Zlib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553080" y="2743200"/>
            <a:ext cx="1067040" cy="914400"/>
            <a:chOff x="6553080" y="2743200"/>
            <a:chExt cx="1067040" cy="914400"/>
          </a:xfrm>
        </p:grpSpPr>
        <p:sp>
          <p:nvSpPr>
            <p:cNvPr id="85" name=""/>
            <p:cNvSpPr/>
            <p:nvPr/>
          </p:nvSpPr>
          <p:spPr>
            <a:xfrm>
              <a:off x="6553080" y="3200400"/>
              <a:ext cx="10670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781680" y="2743200"/>
              <a:ext cx="838440" cy="840240"/>
              <a:chOff x="6781680" y="2743200"/>
              <a:chExt cx="838440" cy="840240"/>
            </a:xfrm>
          </p:grpSpPr>
          <p:sp>
            <p:nvSpPr>
              <p:cNvPr id="87" name=""/>
              <p:cNvSpPr/>
              <p:nvPr/>
            </p:nvSpPr>
            <p:spPr>
              <a:xfrm>
                <a:off x="6782400" y="32763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Nano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81680" y="2743200"/>
                <a:ext cx="83844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720" y="28191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NXli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1371600" y="2437920"/>
            <a:ext cx="1523880" cy="2441160"/>
            <a:chOff x="1371600" y="2437920"/>
            <a:chExt cx="1523880" cy="2441160"/>
          </a:xfrm>
        </p:grpSpPr>
        <p:sp>
          <p:nvSpPr>
            <p:cNvPr id="91" name=""/>
            <p:cNvSpPr/>
            <p:nvPr/>
          </p:nvSpPr>
          <p:spPr>
            <a:xfrm>
              <a:off x="1447920" y="396216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au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3047760"/>
              <a:ext cx="7621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10760" y="320040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26668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5960" y="4572000"/>
              <a:ext cx="607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C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30000" y="3124080"/>
              <a:ext cx="3942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371600" y="2437920"/>
              <a:ext cx="1219320" cy="609480"/>
              <a:chOff x="1371600" y="2437920"/>
              <a:chExt cx="1219320" cy="609480"/>
            </a:xfrm>
          </p:grpSpPr>
          <p:sp>
            <p:nvSpPr>
              <p:cNvPr id="98" name=""/>
              <p:cNvSpPr/>
              <p:nvPr/>
            </p:nvSpPr>
            <p:spPr>
              <a:xfrm>
                <a:off x="1371600" y="24382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590920" y="24379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3124800" y="4495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4L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886200"/>
            <a:ext cx="1219320" cy="99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6680" y="4648320"/>
            <a:ext cx="5007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41911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/dev/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16360" y="3373560"/>
            <a:ext cx="942840" cy="2462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F86_FBDE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4960" y="53341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ost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01720" y="3962520"/>
            <a:ext cx="4116240" cy="1678320"/>
            <a:chOff x="3501720" y="3962520"/>
            <a:chExt cx="4116240" cy="1678320"/>
          </a:xfrm>
        </p:grpSpPr>
        <p:sp>
          <p:nvSpPr>
            <p:cNvPr id="107" name=""/>
            <p:cNvSpPr/>
            <p:nvPr/>
          </p:nvSpPr>
          <p:spPr>
            <a:xfrm>
              <a:off x="5486760" y="396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p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7120" y="396252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tty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8280" y="4572000"/>
              <a:ext cx="1354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SB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1720" y="5333760"/>
              <a:ext cx="38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 processo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/ Board peripher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95480" y="5638680"/>
            <a:ext cx="2514600" cy="662400"/>
            <a:chOff x="2895480" y="5638680"/>
            <a:chExt cx="2514600" cy="662400"/>
          </a:xfrm>
        </p:grpSpPr>
        <p:sp>
          <p:nvSpPr>
            <p:cNvPr id="112" name=""/>
            <p:cNvSpPr/>
            <p:nvPr/>
          </p:nvSpPr>
          <p:spPr>
            <a:xfrm>
              <a:off x="2895480" y="59940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urier New"/>
                </a:rPr>
                <a:t>Video In    Video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400" y="5638680"/>
              <a:ext cx="485640" cy="356040"/>
            </a:xfrm>
            <a:prstGeom prst="upArrow">
              <a:avLst>
                <a:gd name="adj1" fmla="val 40519"/>
                <a:gd name="adj2" fmla="val 59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5638680"/>
              <a:ext cx="485640" cy="346680"/>
            </a:xfrm>
            <a:prstGeom prst="downArrow">
              <a:avLst>
                <a:gd name="adj1" fmla="val 54250"/>
                <a:gd name="adj2" fmla="val 458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495680" y="1829880"/>
            <a:ext cx="4493880" cy="4483800"/>
            <a:chOff x="4495680" y="1829880"/>
            <a:chExt cx="4493880" cy="4483800"/>
          </a:xfrm>
        </p:grpSpPr>
        <p:grpSp>
          <p:nvGrpSpPr>
            <p:cNvPr id="116" name=""/>
            <p:cNvGrpSpPr/>
            <p:nvPr/>
          </p:nvGrpSpPr>
          <p:grpSpPr>
            <a:xfrm>
              <a:off x="4495680" y="1829880"/>
              <a:ext cx="913680" cy="743400"/>
              <a:chOff x="4495680" y="1829880"/>
              <a:chExt cx="913680" cy="743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4495680" y="1829880"/>
                <a:ext cx="913680" cy="743400"/>
                <a:chOff x="4495680" y="1829880"/>
                <a:chExt cx="913680" cy="7434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495680" y="1830240"/>
                  <a:ext cx="91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5409360" y="1829880"/>
                  <a:ext cx="0" cy="74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4723920" y="1978560"/>
                <a:ext cx="609120" cy="30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Courier New"/>
                  </a:rPr>
                  <a:t>SD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866560" y="6067440"/>
              <a:ext cx="31230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Courier New"/>
                </a:rPr>
                <a:t>Multi-platform:</a:t>
              </a:r>
              <a:r>
                <a:rPr b="0" lang="en-US" sz="1000" spc="-1" strike="noStrike">
                  <a:solidFill>
                    <a:srgbClr val="3333cc"/>
                  </a:solidFill>
                  <a:latin typeface="Courier New"/>
                </a:rPr>
                <a:t> Unix, Windows, Ma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09680" y="1523880"/>
            <a:ext cx="1828800" cy="914400"/>
            <a:chOff x="2209680" y="1523880"/>
            <a:chExt cx="1828800" cy="914400"/>
          </a:xfrm>
        </p:grpSpPr>
        <p:sp>
          <p:nvSpPr>
            <p:cNvPr id="123" name=""/>
            <p:cNvSpPr/>
            <p:nvPr/>
          </p:nvSpPr>
          <p:spPr>
            <a:xfrm>
              <a:off x="2514600" y="15238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Strea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523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0968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480" y="152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038480" y="1523880"/>
            <a:ext cx="358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wx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438280"/>
            <a:ext cx="6094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FLT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45840" y="2209680"/>
            <a:ext cx="12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11 has its ow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s driv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can also use 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58840" y="641520"/>
            <a:ext cx="6697800" cy="3808080"/>
            <a:chOff x="1158840" y="641520"/>
            <a:chExt cx="6697800" cy="3808080"/>
          </a:xfrm>
        </p:grpSpPr>
        <p:sp>
          <p:nvSpPr>
            <p:cNvPr id="131" name=""/>
            <p:cNvSpPr/>
            <p:nvPr/>
          </p:nvSpPr>
          <p:spPr>
            <a:xfrm>
              <a:off x="1158840" y="2573280"/>
              <a:ext cx="1736640" cy="627120"/>
            </a:xfrm>
            <a:prstGeom prst="ellipse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98960" y="3124080"/>
              <a:ext cx="1736640" cy="627120"/>
            </a:xfrm>
            <a:prstGeom prst="ellipse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21360" y="2116080"/>
              <a:ext cx="1736640" cy="627120"/>
            </a:xfrm>
            <a:prstGeom prst="ellipse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3822840"/>
              <a:ext cx="1736640" cy="626760"/>
            </a:xfrm>
            <a:prstGeom prst="ellipse">
              <a:avLst/>
            </a:pr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02080" y="641520"/>
              <a:ext cx="255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Bitstream Vera Sans"/>
                  <a:ea typeface="msgothic"/>
                </a:rPr>
                <a:t>CELF V1.0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209680" y="1523880"/>
            <a:ext cx="1828800" cy="2133360"/>
            <a:chOff x="2209680" y="1523880"/>
            <a:chExt cx="1828800" cy="2133360"/>
          </a:xfrm>
        </p:grpSpPr>
        <p:sp>
          <p:nvSpPr>
            <p:cNvPr id="137" name=""/>
            <p:cNvSpPr/>
            <p:nvPr/>
          </p:nvSpPr>
          <p:spPr>
            <a:xfrm>
              <a:off x="4038480" y="152388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14600" y="15238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Strea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09680" y="15238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9680" y="152388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nux API focus with Media/GFX Hardwar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419720"/>
            <a:ext cx="6248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5360" y="4038480"/>
            <a:ext cx="3934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066680"/>
            <a:ext cx="62485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8098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8800" y="4572000"/>
            <a:ext cx="82080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sa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1143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5360" y="1749960"/>
            <a:ext cx="393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ER 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1720" y="5334120"/>
            <a:ext cx="380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st processor / Board peripher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5360" y="5332680"/>
            <a:ext cx="393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5960" y="4572000"/>
            <a:ext cx="6073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8280" y="4572000"/>
            <a:ext cx="135432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SB 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44400" y="4572000"/>
            <a:ext cx="5007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5181480"/>
            <a:ext cx="6248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71600" y="5181480"/>
            <a:ext cx="2057400" cy="609480"/>
            <a:chOff x="1371600" y="5181480"/>
            <a:chExt cx="2057400" cy="609480"/>
          </a:xfrm>
        </p:grpSpPr>
        <p:sp>
          <p:nvSpPr>
            <p:cNvPr id="156" name=""/>
            <p:cNvSpPr/>
            <p:nvPr/>
          </p:nvSpPr>
          <p:spPr>
            <a:xfrm>
              <a:off x="1371600" y="5181480"/>
              <a:ext cx="2057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440" y="5333760"/>
              <a:ext cx="1140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edia/GF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380988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71600" y="2743200"/>
            <a:ext cx="1447920" cy="1526400"/>
            <a:chOff x="1371600" y="2743200"/>
            <a:chExt cx="1447920" cy="1526400"/>
          </a:xfrm>
        </p:grpSpPr>
        <p:sp>
          <p:nvSpPr>
            <p:cNvPr id="160" name=""/>
            <p:cNvSpPr/>
            <p:nvPr/>
          </p:nvSpPr>
          <p:spPr>
            <a:xfrm>
              <a:off x="1530000" y="3124080"/>
              <a:ext cx="3942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2743200"/>
              <a:ext cx="1447920" cy="91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1280" y="2971800"/>
              <a:ext cx="607320" cy="30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27432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396252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au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358800" y="4572000"/>
            <a:ext cx="5007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4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952880" y="1676520"/>
            <a:ext cx="2667240" cy="2653560"/>
            <a:chOff x="4952880" y="1676520"/>
            <a:chExt cx="2667240" cy="2653560"/>
          </a:xfrm>
        </p:grpSpPr>
        <p:sp>
          <p:nvSpPr>
            <p:cNvPr id="167" name=""/>
            <p:cNvSpPr/>
            <p:nvPr/>
          </p:nvSpPr>
          <p:spPr>
            <a:xfrm>
              <a:off x="5181480" y="3962520"/>
              <a:ext cx="13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fb[2D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7280" y="1676520"/>
              <a:ext cx="99072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7280" y="1828800"/>
              <a:ext cx="99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N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GTK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53440" y="3809880"/>
              <a:ext cx="103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p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t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181480" y="3200400"/>
              <a:ext cx="1371600" cy="457200"/>
              <a:chOff x="5181480" y="3200400"/>
              <a:chExt cx="1371600" cy="457200"/>
            </a:xfrm>
          </p:grpSpPr>
          <p:sp>
            <p:nvSpPr>
              <p:cNvPr id="172" name=""/>
              <p:cNvSpPr/>
              <p:nvPr/>
            </p:nvSpPr>
            <p:spPr>
              <a:xfrm>
                <a:off x="5181480" y="3200400"/>
                <a:ext cx="13716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58160" y="3276360"/>
                <a:ext cx="103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DirectF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952880" y="2743200"/>
              <a:ext cx="266724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640" y="2971800"/>
              <a:ext cx="1034280" cy="30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irectF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2743200"/>
              <a:ext cx="266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67280" y="22096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67280" y="16765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513160" y="1928880"/>
            <a:ext cx="2820960" cy="2340720"/>
            <a:chOff x="2513160" y="1928880"/>
            <a:chExt cx="2820960" cy="2340720"/>
          </a:xfrm>
        </p:grpSpPr>
        <p:sp>
          <p:nvSpPr>
            <p:cNvPr id="180" name=""/>
            <p:cNvSpPr/>
            <p:nvPr/>
          </p:nvSpPr>
          <p:spPr>
            <a:xfrm>
              <a:off x="2667240" y="396252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at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3160" y="3124080"/>
              <a:ext cx="2820960" cy="533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52560" y="3138480"/>
              <a:ext cx="2311560" cy="520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HAPI 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1928880"/>
              <a:ext cx="2133360" cy="11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4080" y="205740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V streaming 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3160" y="3079800"/>
              <a:ext cx="2819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3520" y="2851200"/>
              <a:ext cx="716040" cy="24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UHAP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3403440"/>
              <a:ext cx="11430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Demo:SDL/V4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3403440"/>
              <a:ext cx="9903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Na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2520" y="396252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dev/vid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AVG WG project-lis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72960" y="1752480"/>
          <a:ext cx="8229600" cy="3818160"/>
        </p:xfrm>
        <a:graphic>
          <a:graphicData uri="http://schemas.openxmlformats.org/drawingml/2006/table">
            <a:tbl>
              <a:tblPr/>
              <a:tblGrid>
                <a:gridCol w="2256120"/>
                <a:gridCol w="1085760"/>
                <a:gridCol w="1679400"/>
                <a:gridCol w="1609920"/>
                <a:gridCol w="1598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u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Video A/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2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Renesas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itstream Vera Sans"/>
                          <a:ea typeface="msgothic"/>
                        </a:rPr>
                        <a:t>Mitsubishi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 Conexant, Phil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DirectF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Philips (2), Sam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2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n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 phase: Renesas, Mi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U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PI (A+D T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Philips (interim sol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Multi-F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Renesas, Mits., IM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OpenGL [ES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Renesas, Mits., Toshiba Europe, L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DTV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DVB - A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ALSA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ETRI, Rene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gothic"/>
                        </a:rPr>
                        <a:t>GTK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ans"/>
                <a:ea typeface="ＭＳ Ｐゴシック"/>
              </a:rPr>
              <a:t>Output: task list</a:t>
            </a:r>
            <a:endParaRPr b="0" lang="en-US" sz="4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86924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uxDVB  - add documentation, extensions to support analog, higher level API, Q1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ke OS implementation (incl. DVB V4?) of UHAPI PC available, Phi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FB: Acceleration, consider API extension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/Khronos group: OpenGL ES relation to Direct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HAPI team: detailed look at DVB &amp; Direct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.b.d. Set timeline for studies &amp; 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eter van der Meulen</cp:lastModifiedBy>
  <dcterms:modified xsi:type="dcterms:W3CDTF">2005-02-01T00:55:29Z</dcterms:modified>
  <cp:revision>39</cp:revision>
  <dc:subject/>
  <dc:title>PowerPoint Presentation</dc:title>
</cp:coreProperties>
</file>